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F5F-E0AF-42E5-90FC-E58C201B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622-00D0-4610-9C7F-E03FB39E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4FC-AC30-43A4-8BBF-A544E6D0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055-A361-42F9-A821-93AA398D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091-DBFF-4A52-B780-72B07434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ED3-66F2-4082-86D0-21290A90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95A-6850-400B-83D0-30D6E1D6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6E1-CBDA-4F05-B996-D590A217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7F5-CC75-4906-B166-26D69DEE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1BA-64B9-40D2-ABBE-3942A407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587-0904-4A14-8973-421516F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6AB-05E9-4C95-BC63-4917808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0F91-9516-405A-8122-56A3C15A4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apter 13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ection 1: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ight Triangle Trigonometry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ar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ix trigonometric functions: Sine, Cosine, Tangent, Cosecant, Secant, and Cotang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447920" y="3276720"/>
            <a:ext cx="541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They are abbreviated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Sin, Cos, Tan, Csc, Sec, and C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380880" y="6095880"/>
            <a:ext cx="6172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ythagorean Theorem: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+ 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= c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11320" t="32584" r="9434" b="27938"/>
          <a:stretch/>
        </p:blipFill>
        <p:spPr>
          <a:xfrm>
            <a:off x="-76320" y="0"/>
            <a:ext cx="6934320" cy="7467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068560" y="70866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p. 7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1. Evaluate the six trig functions of the angel θ shown in the figure in the right triang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3276720" y="2971800"/>
            <a:ext cx="3590280" cy="5157000"/>
            <a:chOff x="3276720" y="2971800"/>
            <a:chExt cx="3590280" cy="5157000"/>
          </a:xfrm>
        </p:grpSpPr>
        <p:sp>
          <p:nvSpPr>
            <p:cNvPr id="49" name="Text Box 3"/>
            <p:cNvSpPr/>
            <p:nvPr/>
          </p:nvSpPr>
          <p:spPr>
            <a:xfrm>
              <a:off x="4364640" y="3296520"/>
              <a:ext cx="435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276720" y="2971800"/>
              <a:ext cx="3590280" cy="5157000"/>
              <a:chOff x="3276720" y="2971800"/>
              <a:chExt cx="3590280" cy="5157000"/>
            </a:xfrm>
          </p:grpSpPr>
          <p:grpSp>
            <p:nvGrpSpPr>
              <p:cNvPr id="51" name="Group 5"/>
              <p:cNvGrpSpPr/>
              <p:nvPr/>
            </p:nvGrpSpPr>
            <p:grpSpPr>
              <a:xfrm>
                <a:off x="4429080" y="2971800"/>
                <a:ext cx="2084400" cy="3647160"/>
                <a:chOff x="4429080" y="2971800"/>
                <a:chExt cx="2084400" cy="3647160"/>
              </a:xfrm>
            </p:grpSpPr>
            <p:sp>
              <p:nvSpPr>
                <p:cNvPr id="52" name="AutoShape 6"/>
                <p:cNvSpPr/>
                <p:nvPr/>
              </p:nvSpPr>
              <p:spPr>
                <a:xfrm>
                  <a:off x="4429080" y="2971800"/>
                  <a:ext cx="2084400" cy="3645360"/>
                </a:xfrm>
                <a:prstGeom prst="rtTriangl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7"/>
                <p:cNvSpPr/>
                <p:nvPr/>
              </p:nvSpPr>
              <p:spPr>
                <a:xfrm>
                  <a:off x="4429080" y="6292080"/>
                  <a:ext cx="198360" cy="3268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Text Box 8"/>
              <p:cNvSpPr/>
              <p:nvPr/>
            </p:nvSpPr>
            <p:spPr>
              <a:xfrm>
                <a:off x="4723920" y="7238880"/>
                <a:ext cx="127188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9"/>
              <p:cNvSpPr/>
              <p:nvPr/>
            </p:nvSpPr>
            <p:spPr>
              <a:xfrm>
                <a:off x="5263560" y="3926880"/>
                <a:ext cx="160344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0"/>
              <p:cNvSpPr/>
              <p:nvPr/>
            </p:nvSpPr>
            <p:spPr>
              <a:xfrm>
                <a:off x="3276720" y="4287240"/>
                <a:ext cx="127188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Ink 18"/>
          <p:cNvSpPr/>
          <p:nvPr/>
        </p:nvSpPr>
        <p:spPr>
          <a:xfrm>
            <a:off x="534960" y="6392880"/>
            <a:ext cx="126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1488" y="17760"/>
                </a:moveTo>
                <a:cubicBezTo>
                  <a:pt x="1499" y="17760"/>
                  <a:pt x="1510" y="17760"/>
                  <a:pt x="1521" y="17760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ONOMETRIC VALUES FOR SPECIAL TRIANGLES (p. 770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0453" t="27938" r="9434" b="39552"/>
          <a:stretch/>
        </p:blipFill>
        <p:spPr>
          <a:xfrm>
            <a:off x="0" y="2514600"/>
            <a:ext cx="701028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19522" t="59291" r="10815" b="18652"/>
          <a:stretch/>
        </p:blipFill>
        <p:spPr>
          <a:xfrm>
            <a:off x="304920" y="6477120"/>
            <a:ext cx="6095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57200" y="609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2. Sin 60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80880" y="5943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4. Sec 45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0880" y="35053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3.  Cos 30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3962520" y="457200"/>
            <a:ext cx="2589840" cy="2361960"/>
            <a:chOff x="3962520" y="457200"/>
            <a:chExt cx="2589840" cy="2361960"/>
          </a:xfrm>
        </p:grpSpPr>
        <p:sp>
          <p:nvSpPr>
            <p:cNvPr id="65" name="Text Box 3"/>
            <p:cNvSpPr/>
            <p:nvPr/>
          </p:nvSpPr>
          <p:spPr>
            <a:xfrm>
              <a:off x="5082840" y="771840"/>
              <a:ext cx="1389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4"/>
            <p:cNvSpPr/>
            <p:nvPr/>
          </p:nvSpPr>
          <p:spPr>
            <a:xfrm>
              <a:off x="3962520" y="838800"/>
              <a:ext cx="8388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5"/>
            <p:cNvGrpSpPr/>
            <p:nvPr/>
          </p:nvGrpSpPr>
          <p:grpSpPr>
            <a:xfrm>
              <a:off x="3998520" y="457200"/>
              <a:ext cx="2553840" cy="1719360"/>
              <a:chOff x="3998520" y="457200"/>
              <a:chExt cx="2553840" cy="1719360"/>
            </a:xfrm>
          </p:grpSpPr>
          <p:sp>
            <p:nvSpPr>
              <p:cNvPr id="68" name="AutoShape 6"/>
              <p:cNvSpPr/>
              <p:nvPr/>
            </p:nvSpPr>
            <p:spPr>
              <a:xfrm>
                <a:off x="3998520" y="457200"/>
                <a:ext cx="2553840" cy="171936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7"/>
              <p:cNvSpPr/>
              <p:nvPr/>
            </p:nvSpPr>
            <p:spPr>
              <a:xfrm flipH="1">
                <a:off x="4009320" y="2000880"/>
                <a:ext cx="243000" cy="154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 Box 8"/>
            <p:cNvSpPr/>
            <p:nvPr/>
          </p:nvSpPr>
          <p:spPr>
            <a:xfrm>
              <a:off x="4531320" y="2101680"/>
              <a:ext cx="1389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9"/>
          <p:cNvGrpSpPr/>
          <p:nvPr/>
        </p:nvGrpSpPr>
        <p:grpSpPr>
          <a:xfrm>
            <a:off x="4289040" y="3276720"/>
            <a:ext cx="2035080" cy="2057040"/>
            <a:chOff x="4289040" y="3276720"/>
            <a:chExt cx="2035080" cy="2057040"/>
          </a:xfrm>
        </p:grpSpPr>
        <p:sp>
          <p:nvSpPr>
            <p:cNvPr id="72" name="Text Box 10"/>
            <p:cNvSpPr/>
            <p:nvPr/>
          </p:nvSpPr>
          <p:spPr>
            <a:xfrm>
              <a:off x="5028840" y="3733920"/>
              <a:ext cx="814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4952160" y="5029200"/>
              <a:ext cx="609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5181120" y="4571640"/>
              <a:ext cx="900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4289040" y="3276720"/>
              <a:ext cx="2035080" cy="1667880"/>
              <a:chOff x="4289040" y="3276720"/>
              <a:chExt cx="2035080" cy="1667880"/>
            </a:xfrm>
          </p:grpSpPr>
          <p:sp>
            <p:nvSpPr>
              <p:cNvPr id="76" name="AutoShape 14"/>
              <p:cNvSpPr/>
              <p:nvPr/>
            </p:nvSpPr>
            <p:spPr>
              <a:xfrm>
                <a:off x="4301280" y="3276720"/>
                <a:ext cx="2022840" cy="166788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"/>
              <p:cNvSpPr/>
              <p:nvPr/>
            </p:nvSpPr>
            <p:spPr>
              <a:xfrm flipH="1">
                <a:off x="4288680" y="4773240"/>
                <a:ext cx="192600" cy="148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16"/>
          <p:cNvGrpSpPr/>
          <p:nvPr/>
        </p:nvGrpSpPr>
        <p:grpSpPr>
          <a:xfrm>
            <a:off x="4267080" y="5943600"/>
            <a:ext cx="2361960" cy="1828440"/>
            <a:chOff x="4267080" y="5943600"/>
            <a:chExt cx="2361960" cy="1828440"/>
          </a:xfrm>
        </p:grpSpPr>
        <p:sp>
          <p:nvSpPr>
            <p:cNvPr id="79" name="Text Box 17"/>
            <p:cNvSpPr/>
            <p:nvPr/>
          </p:nvSpPr>
          <p:spPr>
            <a:xfrm>
              <a:off x="4797720" y="7186680"/>
              <a:ext cx="136656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8"/>
            <p:cNvGrpSpPr/>
            <p:nvPr/>
          </p:nvGrpSpPr>
          <p:grpSpPr>
            <a:xfrm>
              <a:off x="4267080" y="5943600"/>
              <a:ext cx="2361960" cy="1301400"/>
              <a:chOff x="4267080" y="5943600"/>
              <a:chExt cx="2361960" cy="1301400"/>
            </a:xfrm>
          </p:grpSpPr>
          <p:sp>
            <p:nvSpPr>
              <p:cNvPr id="81" name="AutoShape 19"/>
              <p:cNvSpPr/>
              <p:nvPr/>
            </p:nvSpPr>
            <p:spPr>
              <a:xfrm>
                <a:off x="4267080" y="5943600"/>
                <a:ext cx="2361960" cy="130068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20"/>
              <p:cNvSpPr/>
              <p:nvPr/>
            </p:nvSpPr>
            <p:spPr>
              <a:xfrm>
                <a:off x="4267080" y="7128360"/>
                <a:ext cx="224640" cy="116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Text Box 21"/>
            <p:cNvSpPr/>
            <p:nvPr/>
          </p:nvSpPr>
          <p:spPr>
            <a:xfrm>
              <a:off x="4962960" y="6045840"/>
              <a:ext cx="139356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5226120" y="6803640"/>
              <a:ext cx="130464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29"/>
          <p:cNvSpPr/>
          <p:nvPr/>
        </p:nvSpPr>
        <p:spPr>
          <a:xfrm>
            <a:off x="626040" y="7924680"/>
            <a:ext cx="32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W:P772#15-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3:44:15Z</dcterms:created>
  <dc:creator>sraja</dc:creator>
  <dc:description/>
  <dc:language>en-US</dc:language>
  <cp:lastModifiedBy>sraja</cp:lastModifiedBy>
  <dcterms:modified xsi:type="dcterms:W3CDTF">2011-02-25T15:02:36Z</dcterms:modified>
  <cp:revision>15</cp:revision>
  <dc:subject/>
  <dc:title>There are six trigonometric functions: Sine, Cosine, Tangent, Cosecant, Secant, and Cotangent.</dc:title>
</cp:coreProperties>
</file>